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653F9-3C7D-451C-BF90-10A9EF4041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4BA60-B105-40A8-A400-0887AB1C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677F-12C0-400A-BA7C-901D9F77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5DED-1A0C-4E0B-BDCB-8191FC00FF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E5B9-5CA0-4D2A-B14E-C7621CC4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0702-2644-4013-9F6D-1D5937D6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91E2B-D05F-4A54-A198-8B1115C9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D92EB-0465-4AD9-B26B-13140CF0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4922-C98E-47B4-83D9-F76A8113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2431-F9CD-4CBF-A3D0-2C84B3C2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5D729-E6C4-423E-98DC-0493AC52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9A4A-3462-49E3-A644-88378D2A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E8A0-AD8B-48CF-87CD-DCCBAB5C44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作业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与知觉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注意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记忆障碍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认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用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个人卫生：洗脸、刷牙、梳头、洗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床上活动：翻身、坐起、上下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更衣：穿脱衣裤和鞋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转移训练：床和轮椅间转移、轮椅和拐杖的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：端碗、持杯、用筷或刀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辅助器具配制及使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、着装、如厕、写字等辅助器具，如防止饭菜洒落的盘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改造的碗、筷、杯，协助固定餐具的防滑垫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加粗改进型的勺、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帮助完成抓握动作的万能袖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9" name="Picture 4" descr="4-2-41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38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-2-44"/>
          <p:cNvPicPr/>
          <p:nvPr/>
        </p:nvPicPr>
        <p:blipFill>
          <a:blip r:embed="rId2"/>
          <a:stretch/>
        </p:blipFill>
        <p:spPr>
          <a:xfrm>
            <a:off x="4427640" y="1557360"/>
            <a:ext cx="432108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24000" y="4941720"/>
            <a:ext cx="842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助筷子、勺、碟、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916360" y="5589720"/>
            <a:ext cx="345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辅助器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七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根据患者的体力、病情、兴趣、生活、学习等需要选择作业治疗内容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结合医院、社区、家庭环境条件选择作业治疗方式，应做到因地制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有专业治疗人员或家人监护和指导，以保证安全，防止发生意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定期评定，及时调整、修订治疗处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作业治疗需与物理治疗、心理治疗、言语治疗、康复工程等治疗方法密切结合，以提高疗效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occupational therapy, OT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应用有目的和选择性的参与活动，帮助功能障碍的病人进行治疗性训练，以最大限度地恢复躯体、心理和社会方面的功能，增进健康，预防能力丧失及残疾的发生，帮助其重返社会的一种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保持或增强患者的参与能力，促进患者获得新的日常生活活动能力及职业能力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的最终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生存质量，训练患者成为生活中的主动角色，积极进行必需的生活活动和工作，进一步消除残疾，增进健康，重返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）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根据分类的方式不同有不同的项目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治疗的名称分类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手工艺作业，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，文书类作业，治疗性游戏作业，认知作业，木工作业，编织作业，书法、绘画作业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内容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、工艺治疗、园艺治疗、文娱治疗、矫形器制作及训练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目的和作用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增强肌力的作业、增强肌肉耐力的作业、改善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ROM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的作业、减轻疼痛的作业、增强协调性的作业、改善整体功能的作业、提高认知能力的作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疗法的功能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功能性作业治疗、职业作业治疗、娱乐活动、作业宣教和咨询、环境干预、辅助技术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三）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增强躯体感觉和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改善社会适应和心理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选择作业治疗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在全面评定的基础上，有目的地进行选择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分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必要的修改和调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尽量以集体活动的方式进行活动，提高患者治疗的积极性和治疗效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充分发挥治疗师的指导、协调作用，保证活动的顺利进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9720" y="1371240"/>
            <a:ext cx="791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作业治疗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感觉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心理社会活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治疗性功能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强加肌力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耐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关节活动度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强协调性和平衡功能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44:03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